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A28B-3B58-43CD-A2DD-52C5C5189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9ACD-AF61-418E-A2CA-FE7C8C639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51A7-D97C-422A-8272-E3FC3F7C2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729D-9540-473B-A28D-B44AAEBEB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635-BF61-44AC-AB37-593F2B55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DF2-0027-4859-8EAA-40A188E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8A5-48EF-4CFE-80E8-A944F79C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9F4-0924-4CF4-8A53-1F4D1E42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53E-34C1-4F50-907C-DF3726C2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FB5-CFEF-4644-9ADC-A1E748F6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7ED-7AC1-464F-9368-18792068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B2A-C0D9-4593-AB51-41E3C137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C87-B612-41C1-9396-49D0C55C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FE0-FD16-4C63-9DB2-4273C0C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B98-CF82-46D6-9F9A-314CE697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6B5-93A9-4BC0-B377-B0D4CB7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A4E7-3E61-4B94-B376-8F72D456D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estnikk.ru/uploads/posts/2010-06/slon.jpg" TargetMode="External"/><Relationship Id="rId2" Type="http://schemas.openxmlformats.org/officeDocument/2006/relationships/hyperlink" Target="http://shkola.ostriv.in.ua/images/publications/4/14411/1355755132.jpg" TargetMode="External"/><Relationship Id="rId3" Type="http://schemas.openxmlformats.org/officeDocument/2006/relationships/hyperlink" Target="http://vospitatel.com.ua/images/krot5.jpg" TargetMode="External"/><Relationship Id="rId4" Type="http://schemas.openxmlformats.org/officeDocument/2006/relationships/hyperlink" Target="http://img32.vkrugudruzei.ru/images/119/849/24/29726f3a3f1346e69624689c37ac56f2_med.jpg" TargetMode="External"/><Relationship Id="rId5" Type="http://schemas.openxmlformats.org/officeDocument/2006/relationships/hyperlink" Target="http://katyaburg.ru/sites/default/files/pictures/zabavnie_jivotnie/volk_volki_kartinki_foto_04-3.jpg" TargetMode="External"/><Relationship Id="rId6" Type="http://schemas.openxmlformats.org/officeDocument/2006/relationships/hyperlink" Target="http://img.amigos.lv/img/qna_a/0/34/6540/w8FKVRvqMyZo8Gfda.jpeg" TargetMode="External"/><Relationship Id="rId7" Type="http://schemas.openxmlformats.org/officeDocument/2006/relationships/hyperlink" Target="http://fomchenkov.ru/photogallery/00147big_makro.jpg" TargetMode="External"/><Relationship Id="rId8" Type="http://schemas.openxmlformats.org/officeDocument/2006/relationships/hyperlink" Target="http://kamchatsky-krai.ru/bear/i/103_1.jpg" TargetMode="External"/><Relationship Id="rId9" Type="http://schemas.openxmlformats.org/officeDocument/2006/relationships/hyperlink" Target="http://upload.wikimedia.org/wikipedia/commons/thumb/4/48/Aedes_aegypti_biting_human.jpg/275px-Aedes_aegypti_biting_human.jpg" TargetMode="External"/><Relationship Id="rId10" Type="http://schemas.openxmlformats.org/officeDocument/2006/relationships/hyperlink" Target="http://zhivayapriroda.ru/images/fauna/flamingo.jpg" TargetMode="External"/><Relationship Id="rId11" Type="http://schemas.openxmlformats.org/officeDocument/2006/relationships/hyperlink" Target="http://img0.liveinternet.ru/images/attach/c/3/75/464/75464940_morzh.jpg" TargetMode="External"/><Relationship Id="rId12" Type="http://schemas.openxmlformats.org/officeDocument/2006/relationships/hyperlink" Target="http://vladnews.ru/thumb.php?file=/uploads/2010/11/09/626.jpg&amp;x_width=240" TargetMode="External"/><Relationship Id="rId13" Type="http://schemas.openxmlformats.org/officeDocument/2006/relationships/hyperlink" Target="http://murzim.ru/uploads/posts/2010-12/1292447266_image037.jpg" TargetMode="External"/><Relationship Id="rId14" Type="http://schemas.openxmlformats.org/officeDocument/2006/relationships/hyperlink" Target="http://facepla.net/images/stories2/443/14_animals_to_resurrect/14_animals_to_resurrect_11.jpg" TargetMode="External"/><Relationship Id="rId15" Type="http://schemas.openxmlformats.org/officeDocument/2006/relationships/hyperlink" Target="http://natureworld.ru/misc/archeo/arch_animals/archaeo_animals_09.jpg" TargetMode="External"/><Relationship Id="rId16" Type="http://schemas.openxmlformats.org/officeDocument/2006/relationships/hyperlink" Target="http://www.koipkro.kostroma.ru/Sharya/shool7/DocLib74/013.gif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4646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аши любимые живот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омова Елена 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У РК  «Республиканский  центр образован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П «РДБ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3570120"/>
            <a:ext cx="3348000" cy="32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431120" y="4646520"/>
            <a:ext cx="17128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 кого уши на нога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2-конечная звезда 9"/>
          <p:cNvSpPr/>
          <p:nvPr/>
        </p:nvSpPr>
        <p:spPr>
          <a:xfrm>
            <a:off x="2916360" y="155736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бабочек и ж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2-конечная звезда 9"/>
          <p:cNvSpPr/>
          <p:nvPr/>
        </p:nvSpPr>
        <p:spPr>
          <a:xfrm>
            <a:off x="2987640" y="314172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ух и ком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-конечная звезда 9"/>
          <p:cNvSpPr/>
          <p:nvPr/>
        </p:nvSpPr>
        <p:spPr>
          <a:xfrm>
            <a:off x="305928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узнечиков и свер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tretch/>
        </p:blipFill>
        <p:spPr>
          <a:xfrm>
            <a:off x="0" y="3786120"/>
            <a:ext cx="288756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то самый крупный из наземных млекопитающи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0" y="3929040"/>
            <a:ext cx="2714760" cy="2960640"/>
          </a:xfrm>
          <a:prstGeom prst="rect">
            <a:avLst/>
          </a:prstGeom>
          <a:ln w="0">
            <a:noFill/>
          </a:ln>
        </p:spPr>
      </p:pic>
      <p:sp>
        <p:nvSpPr>
          <p:cNvPr id="93" name="12-конечная звезда 9"/>
          <p:cNvSpPr/>
          <p:nvPr/>
        </p:nvSpPr>
        <p:spPr>
          <a:xfrm>
            <a:off x="284328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й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-конечная звезда 9"/>
          <p:cNvSpPr/>
          <p:nvPr/>
        </p:nvSpPr>
        <p:spPr>
          <a:xfrm>
            <a:off x="2987640" y="328464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ем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-конечная звезда 9"/>
          <p:cNvSpPr/>
          <p:nvPr/>
        </p:nvSpPr>
        <p:spPr>
          <a:xfrm>
            <a:off x="298764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ти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ем, играя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3252960"/>
            <a:ext cx="3286080" cy="360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кончите  фраз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лый, как 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дный , как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ямый 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хает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олапый , как…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ит , как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olk_volki_kartinki_foto_04-3"/>
          <p:cNvPicPr/>
          <p:nvPr/>
        </p:nvPicPr>
        <p:blipFill>
          <a:blip r:embed="rId1"/>
          <a:stretch/>
        </p:blipFill>
        <p:spPr>
          <a:xfrm>
            <a:off x="5003640" y="1700280"/>
            <a:ext cx="158436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00147big_makro"/>
          <p:cNvPicPr/>
          <p:nvPr/>
        </p:nvPicPr>
        <p:blipFill>
          <a:blip r:embed="rId2"/>
          <a:stretch/>
        </p:blipFill>
        <p:spPr>
          <a:xfrm>
            <a:off x="5796000" y="3789360"/>
            <a:ext cx="1584360" cy="7905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5" descr="103_1"/>
          <p:cNvPicPr/>
          <p:nvPr/>
        </p:nvPicPr>
        <p:blipFill>
          <a:blip r:embed="rId3"/>
          <a:stretch/>
        </p:blipFill>
        <p:spPr>
          <a:xfrm>
            <a:off x="6300720" y="4724280"/>
            <a:ext cx="1584360" cy="8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275px-Aedes_aegypti_biting_human"/>
          <p:cNvPicPr/>
          <p:nvPr/>
        </p:nvPicPr>
        <p:blipFill>
          <a:blip r:embed="rId4"/>
          <a:stretch/>
        </p:blipFill>
        <p:spPr>
          <a:xfrm>
            <a:off x="6659640" y="5734080"/>
            <a:ext cx="158436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"/>
          <p:cNvPicPr/>
          <p:nvPr/>
        </p:nvPicPr>
        <p:blipFill>
          <a:blip r:embed="rId5"/>
          <a:stretch/>
        </p:blipFill>
        <p:spPr>
          <a:xfrm>
            <a:off x="0" y="4500720"/>
            <a:ext cx="2000160" cy="235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w8FKVRvqMyZo8Gfda"/>
          <p:cNvPicPr/>
          <p:nvPr/>
        </p:nvPicPr>
        <p:blipFill>
          <a:blip r:embed="rId6"/>
          <a:stretch/>
        </p:blipFill>
        <p:spPr>
          <a:xfrm>
            <a:off x="5364000" y="2708280"/>
            <a:ext cx="1513080" cy="824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29726f3a3f1346e69624689c37ac56f2_med"/>
          <p:cNvPicPr/>
          <p:nvPr/>
        </p:nvPicPr>
        <p:blipFill>
          <a:blip r:embed="rId7"/>
          <a:stretch/>
        </p:blipFill>
        <p:spPr>
          <a:xfrm>
            <a:off x="4716360" y="650880"/>
            <a:ext cx="16160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згадайте, какие животные зашифрованы в ребуса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Ребусы про животных"/>
          <p:cNvPicPr/>
          <p:nvPr/>
        </p:nvPicPr>
        <p:blipFill>
          <a:blip r:embed="rId1"/>
          <a:stretch/>
        </p:blipFill>
        <p:spPr>
          <a:xfrm>
            <a:off x="1428840" y="2000160"/>
            <a:ext cx="242568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Ребусы про животных"/>
          <p:cNvPicPr/>
          <p:nvPr/>
        </p:nvPicPr>
        <p:blipFill>
          <a:blip r:embed="rId2"/>
          <a:stretch/>
        </p:blipFill>
        <p:spPr>
          <a:xfrm>
            <a:off x="1476360" y="4429080"/>
            <a:ext cx="2374920" cy="130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Ребусы про животных в картинках"/>
          <p:cNvPicPr/>
          <p:nvPr/>
        </p:nvPicPr>
        <p:blipFill>
          <a:blip r:embed="rId3"/>
          <a:stretch/>
        </p:blipFill>
        <p:spPr>
          <a:xfrm>
            <a:off x="5572080" y="4286160"/>
            <a:ext cx="28162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05d6ee59ca9a1a40962e29296823240d"/>
          <p:cNvPicPr/>
          <p:nvPr/>
        </p:nvPicPr>
        <p:blipFill>
          <a:blip r:embed="rId4"/>
          <a:stretch/>
        </p:blipFill>
        <p:spPr>
          <a:xfrm>
            <a:off x="1428840" y="407196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t4243290_160x120"/>
          <p:cNvPicPr/>
          <p:nvPr/>
        </p:nvPicPr>
        <p:blipFill>
          <a:blip r:embed="rId5"/>
          <a:stretch/>
        </p:blipFill>
        <p:spPr>
          <a:xfrm>
            <a:off x="1428840" y="1714680"/>
            <a:ext cx="2930400" cy="200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tyl005-150x150"/>
          <p:cNvPicPr/>
          <p:nvPr/>
        </p:nvPicPr>
        <p:blipFill>
          <a:blip r:embed="rId6"/>
          <a:stretch/>
        </p:blipFill>
        <p:spPr>
          <a:xfrm>
            <a:off x="5572080" y="4071960"/>
            <a:ext cx="278604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Ребусы про животных"/>
          <p:cNvPicPr/>
          <p:nvPr/>
        </p:nvPicPr>
        <p:blipFill>
          <a:blip r:embed="rId7"/>
          <a:stretch/>
        </p:blipFill>
        <p:spPr>
          <a:xfrm>
            <a:off x="5715000" y="2143080"/>
            <a:ext cx="240516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103_1"/>
          <p:cNvPicPr/>
          <p:nvPr/>
        </p:nvPicPr>
        <p:blipFill>
          <a:blip r:embed="rId8"/>
          <a:stretch/>
        </p:blipFill>
        <p:spPr>
          <a:xfrm>
            <a:off x="5572080" y="1714680"/>
            <a:ext cx="2714760" cy="1935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"/>
          <p:cNvPicPr/>
          <p:nvPr/>
        </p:nvPicPr>
        <p:blipFill>
          <a:blip r:embed="rId9"/>
          <a:stretch/>
        </p:blipFill>
        <p:spPr>
          <a:xfrm>
            <a:off x="0" y="5084640"/>
            <a:ext cx="1619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15652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спределите  животных  на группы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85880" y="1213920"/>
            <a:ext cx="381168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нув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14920" y="1142640"/>
            <a:ext cx="3884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flamingo"/>
          <p:cNvPicPr/>
          <p:nvPr/>
        </p:nvPicPr>
        <p:blipFill>
          <a:blip r:embed="rId1"/>
          <a:stretch/>
        </p:blipFill>
        <p:spPr>
          <a:xfrm>
            <a:off x="1214280" y="2357280"/>
            <a:ext cx="1873440" cy="136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75464940_morzh"/>
          <p:cNvPicPr/>
          <p:nvPr/>
        </p:nvPicPr>
        <p:blipFill>
          <a:blip r:embed="rId2"/>
          <a:stretch/>
        </p:blipFill>
        <p:spPr>
          <a:xfrm>
            <a:off x="1214280" y="4286160"/>
            <a:ext cx="18496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1292447266_image037"/>
          <p:cNvPicPr/>
          <p:nvPr/>
        </p:nvPicPr>
        <p:blipFill>
          <a:blip r:embed="rId3"/>
          <a:stretch/>
        </p:blipFill>
        <p:spPr>
          <a:xfrm>
            <a:off x="6715080" y="421488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14_animals_to_resurrect_11"/>
          <p:cNvPicPr/>
          <p:nvPr/>
        </p:nvPicPr>
        <p:blipFill>
          <a:blip r:embed="rId4"/>
          <a:stretch/>
        </p:blipFill>
        <p:spPr>
          <a:xfrm>
            <a:off x="6643800" y="221472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archaeo_animals_09"/>
          <p:cNvPicPr/>
          <p:nvPr/>
        </p:nvPicPr>
        <p:blipFill>
          <a:blip r:embed="rId5"/>
          <a:stretch/>
        </p:blipFill>
        <p:spPr>
          <a:xfrm>
            <a:off x="3924360" y="4365720"/>
            <a:ext cx="199368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"/>
          <p:cNvPicPr/>
          <p:nvPr/>
        </p:nvPicPr>
        <p:blipFill>
          <a:blip r:embed="rId6"/>
          <a:stretch/>
        </p:blipFill>
        <p:spPr>
          <a:xfrm>
            <a:off x="0" y="515772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626"/>
          <p:cNvPicPr/>
          <p:nvPr/>
        </p:nvPicPr>
        <p:blipFill>
          <a:blip r:embed="rId7"/>
          <a:stretch/>
        </p:blipFill>
        <p:spPr>
          <a:xfrm>
            <a:off x="3924360" y="227664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5897 L -0.60052 -0.05897 E">
                                      <p:cBhvr>
                                        <p:cTn id="214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8 -0.1353 L -0.60834 -0.1353 E">
                                      <p:cBhvr>
                                        <p:cTn id="21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11841E-006 L -0.29931 0.07354 E">
                                      <p:cBhvr>
                                        <p:cTn id="218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01966 L 0.54167 -0.12466 E">
                                      <p:cBhvr>
                                        <p:cTn id="220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837 0.06683 L 0.53837 0.39986 E">
                                      <p:cBhvr>
                                        <p:cTn id="22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421 L 0.25 -0.0421 E">
                                      <p:cBhvr>
                                        <p:cTn id="22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3" descr=""/>
          <p:cNvPicPr/>
          <p:nvPr/>
        </p:nvPicPr>
        <p:blipFill>
          <a:blip r:embed="rId1"/>
          <a:stretch/>
        </p:blipFill>
        <p:spPr>
          <a:xfrm>
            <a:off x="0" y="3675240"/>
            <a:ext cx="2987640" cy="3182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6746760" y="4076640"/>
            <a:ext cx="2397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спользованн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я «Любимые животные»-  Издательство «Русич» , Смоленск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А. Алексеев «300 вопросов и ответов о животных»- Ярославль «Академия Развития»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5280" y="821880"/>
            <a:ext cx="8424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http://www.vestnikk.ru/uploads/posts/2010-06/slo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2"/>
              </a:rPr>
              <a:t>http://shkola.ostriv.in.ua/images/publications/4/14411/135575513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р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Http://vospitatel.com.ua/images/krot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к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http://img32.vkrugudruzei.ru/images/119/849/24/29726f3a3f1346e69624689c37ac56f2_med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л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5"/>
              </a:rPr>
              <a:t>http://katyaburg.ru/sites/default/files/pictures/zabavnie_jivotnie/volk_volki_kartinki_foto_04-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вол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6"/>
              </a:rPr>
              <a:t>http://img.amigos.lv/img/qna_a/0/34/6540/w8FKVRvqMyZo8Gfda.jpe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осё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7"/>
              </a:rPr>
              <a:t>http://fomchenkov.ru/photogallery/00147big_makr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8"/>
              </a:rPr>
              <a:t>http://kamchatsky-krai.ru/bear/i/103_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едв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9"/>
              </a:rPr>
              <a:t>http://upload.wikimedia.org/wikipedia/commons/thumb/4/48/Aedes_aegypti_biting_human.jpg/275px-Aedes_aegypti_biting_huma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ом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0"/>
              </a:rPr>
              <a:t>http://zhivayapriroda.ru/images/fauna/flaming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ламин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1"/>
              </a:rPr>
              <a:t>http://img0.liveinternet.ru/images/attach/c/3/75/464/75464940_morzh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р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2"/>
              </a:rPr>
              <a:t>http://vladnews.ru/thumb.php?file=/uploads/2010/11/09/626.jpg&amp;x_width=24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3"/>
              </a:rPr>
              <a:t>http://murzim.ru/uploads/posts/2010-12/1292447266_image03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морская ко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4"/>
              </a:rPr>
              <a:t>http://facepla.net/images/stories2/443/14_animals_to_resurrect/14_animals_to_resurrect_1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голуб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5"/>
              </a:rPr>
              <a:t>http://natureworld.ru/misc/archeo/arch_animals/archaeo_animals_0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ро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6"/>
              </a:rPr>
              <a:t>http://www.koipkro.kostroma.ru/Sharya/shool7/DocLib74/013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edsovet.su/load/321-1-0-13661- шаблон презентации(Зинина Светлана Александров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1narodna.com/images/catalog/medium/05d6ee59ca9a1a40962e29296823240d.jpg.jpg -антило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roject66.vietchuyen.org/images/thumbnails/t4243290_160x120.jp- носор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kto-takoy.ru/wp-content/uploads/2010/03/tyl005-150x150.jpg - верблю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nfoarena.ru/infoa_files/imagecache/240x180/users/931/0007374894p-1280x1024.jpg -лек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vremyazabav.ru/zanimatelno/rebusi/rebusi-slova/95-rebusi-pro-zivotnih.html- реб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607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гом по мир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 вопрос - один от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250920" y="3543480"/>
            <a:ext cx="3214440" cy="331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Зачем слону длинный хобо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8000" y="3789000"/>
            <a:ext cx="67788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обот слона- это не только нос, но и ловкая «рука».  С помощью хобота он может брать предметы, рвать траву и пить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lon"/>
          <p:cNvPicPr/>
          <p:nvPr/>
        </p:nvPicPr>
        <p:blipFill>
          <a:blip r:embed="rId1"/>
          <a:stretch/>
        </p:blipFill>
        <p:spPr>
          <a:xfrm>
            <a:off x="2556000" y="115920"/>
            <a:ext cx="3914640" cy="309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0" y="4648320"/>
            <a:ext cx="2071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357280"/>
            <a:ext cx="8435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а Руси принято грозиться: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 Я тебе покажу, где раки зимуют!» 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де же зимуют рак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56840" y="4292280"/>
            <a:ext cx="7572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ки зимуют на самом дне водоёма, в  глубокой яме: одни- в иле, другие под утонувшими сучьями.  На дне вода теплее – вот и собираются там р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0" y="4797360"/>
            <a:ext cx="197964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355755132"/>
          <p:cNvPicPr/>
          <p:nvPr/>
        </p:nvPicPr>
        <p:blipFill>
          <a:blip r:embed="rId2"/>
          <a:stretch/>
        </p:blipFill>
        <p:spPr>
          <a:xfrm>
            <a:off x="2630520" y="130320"/>
            <a:ext cx="3798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497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 ком говорят:« Трудится не открывая глаз и не покладая рук»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4797360"/>
            <a:ext cx="7632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 кроте.  Длина его всего 10-15 см, вес до 100 г. Крот  выносит на поверхность до 10 тонн земли за год.  Настоящая      землероечная маши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krot5"/>
          <p:cNvPicPr/>
          <p:nvPr/>
        </p:nvPicPr>
        <p:blipFill>
          <a:blip r:embed="rId1"/>
          <a:stretch/>
        </p:blipFill>
        <p:spPr>
          <a:xfrm>
            <a:off x="2700360" y="189000"/>
            <a:ext cx="3816360" cy="283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0" y="5000760"/>
            <a:ext cx="1859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9840" y="2285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Яд каких животных используется в медицине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3573000"/>
            <a:ext cx="8498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меиный, пчелиный, лягуша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змеи яд на зубах, у лягушек- на кож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пчелы- на кончике ж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4786200"/>
            <a:ext cx="2073240" cy="20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лекарство аллохол"/>
          <p:cNvPicPr/>
          <p:nvPr/>
        </p:nvPicPr>
        <p:blipFill>
          <a:blip r:embed="rId2"/>
          <a:stretch/>
        </p:blipFill>
        <p:spPr>
          <a:xfrm>
            <a:off x="2700360" y="189000"/>
            <a:ext cx="35352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торо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9720" y="150012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размыслим не спе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- три от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правильный!)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-отв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зелё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вет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4437000"/>
            <a:ext cx="2340000" cy="24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7358040" y="4786200"/>
            <a:ext cx="1785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0" y="4214880"/>
            <a:ext cx="2571840" cy="267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чем змеи язык показываю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2-конечная звезда 9"/>
          <p:cNvSpPr/>
          <p:nvPr/>
        </p:nvSpPr>
        <p:spPr>
          <a:xfrm>
            <a:off x="2786040" y="17146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зн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-конечная звезда 9"/>
          <p:cNvSpPr/>
          <p:nvPr/>
        </p:nvSpPr>
        <p:spPr>
          <a:xfrm>
            <a:off x="2843280" y="3357720"/>
            <a:ext cx="3313080" cy="11509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добы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2-конечная звезда 9"/>
          <p:cNvSpPr/>
          <p:nvPr/>
        </p:nvSpPr>
        <p:spPr>
          <a:xfrm>
            <a:off x="2916360" y="4941720"/>
            <a:ext cx="3240000" cy="1295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ируют температуру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акая птица самая маленька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-конечная звезда 9"/>
          <p:cNvSpPr/>
          <p:nvPr/>
        </p:nvSpPr>
        <p:spPr>
          <a:xfrm>
            <a:off x="320364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б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2-конечная звезда 9"/>
          <p:cNvSpPr/>
          <p:nvPr/>
        </p:nvSpPr>
        <p:spPr>
          <a:xfrm>
            <a:off x="3132000" y="3284640"/>
            <a:ext cx="324036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2-конечная звезда 9"/>
          <p:cNvSpPr/>
          <p:nvPr/>
        </p:nvSpPr>
        <p:spPr>
          <a:xfrm>
            <a:off x="3203640" y="494172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пи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0" y="4000680"/>
            <a:ext cx="27147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26:05Z</dcterms:created>
  <dc:creator>Оля</dc:creator>
  <dc:description/>
  <dc:language>en-US</dc:language>
  <cp:lastModifiedBy>Елена Громова</cp:lastModifiedBy>
  <dcterms:modified xsi:type="dcterms:W3CDTF">2017-10-23T17:50:34Z</dcterms:modified>
  <cp:revision>149</cp:revision>
  <dc:subject/>
  <dc:title>Слайд 1</dc:title>
</cp:coreProperties>
</file>